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1E9-B7A3-479E-A05D-221A4B9E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CD4-C120-4EBC-A886-532DBD42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1E6-5CE0-4BF3-ABF2-C3145389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250-BD0C-46D4-A7E5-87824436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3399-BB1B-4D5C-992B-D07F181A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D579-01A2-44FB-835C-5330F391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C261-BFE7-4988-BCF5-B85D8CEE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A9FB-8A9A-4B86-B3ED-84A9D268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D4E-1444-437C-8BD9-F095B228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D8FE-D05B-4BC1-AE57-996C144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3BA5-0213-4E0F-B724-68F8781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6D4-4A15-46DE-97D7-EFCE6DE4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0DA5-D657-4904-A133-DA470624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DD86-613A-4EB0-AD24-6F60129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A58E-CB08-4884-814E-CE7D678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43A-8BCA-4314-BC5A-D0ED9EDF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749C-7708-47B7-A9DF-291A5C9D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7417-5E15-4C73-861F-F9D3C76E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E0AD-89D0-4E30-87B8-46536000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25FB-1C64-4D37-8193-035D26FF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A585-BAE8-46D4-B2C1-F80608A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462E-514B-454C-958E-36C2643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F0A-1676-43CA-8DF4-B63048D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4DC6-12E7-4C64-9890-07D37AF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2AB8-92CB-4661-83D6-303D923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D38E-8DF7-4670-876E-D90531D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12C9-19CC-4624-A36A-FBF54C5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F7CF-F58E-4575-88FC-DED7CEC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E759-DD30-42E3-890A-ABBB7EFF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2259-073D-4A88-9368-E7D07F63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0AD5-BA50-4467-8280-5ECBF2BC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CA04-FC1A-4EF8-9E0D-64F9D32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56DB-521B-49DF-A8E8-633732E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83B-DAF2-47E7-91E9-C3803DD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1EB5-9CF9-427F-8FF8-E8DAC24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D883-EB74-4168-99D1-899429D5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DFD9-CF75-450D-943A-4F36E4C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AEAD-E7FE-439F-B29E-FD648D3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C58E-E448-4DD7-8E14-C5CB093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3A9C-9525-4376-9FF4-65A96D6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8D1D-733B-4DBB-B520-F3E59E5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4DEF-96B0-4A7C-967E-04435EF1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F168-E2B7-44CF-86D2-01C7928E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555-CAE9-4032-B7BF-3AA4FE6A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3AC-21E9-4677-8184-183A12B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CA2-78C0-4EA4-863C-CB5F373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F55-694E-4113-8277-62A2CE0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304-5D6A-49C4-BD31-931830DC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4797-5CCD-46DC-A253-E6E596568F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7E2D-E312-4354-B61B-44808A0AAA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6EF-A1D4-423D-BEFB-7102217FF5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B231-2287-4526-844F-DA2CFEE04E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95/49095620_kometa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-main-pic" descr="Картинка 92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000080"/>
            <a:ext cx="7358040" cy="5286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3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ыполнил:  Лобанов Алексей Александ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ко-математический факульт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ыктывкар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99" name="Содержимое 2"/>
          <p:cNvGrpSpPr/>
          <p:nvPr/>
        </p:nvGrpSpPr>
        <p:grpSpPr>
          <a:xfrm>
            <a:off x="450720" y="1925640"/>
            <a:ext cx="8242560" cy="4408560"/>
            <a:chOff x="450720" y="1925640"/>
            <a:chExt cx="8242560" cy="4408560"/>
          </a:xfrm>
        </p:grpSpPr>
        <p:pic>
          <p:nvPicPr>
            <p:cNvPr id="20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0720" y="1925640"/>
              <a:ext cx="824256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Calibri"/>
                </a:rPr>
                <a:t>Есть ли шанс проснуться завтра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Рисунок 3" descr="http://www.impactlab.com/wp-content/uploads/2009/04/comet_1294349c.jpg"/>
          <p:cNvPicPr/>
          <p:nvPr/>
        </p:nvPicPr>
        <p:blipFill>
          <a:blip r:embed="rId2"/>
          <a:stretch/>
        </p:blipFill>
        <p:spPr>
          <a:xfrm>
            <a:off x="1928880" y="2571840"/>
            <a:ext cx="5333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олкнется ли комета с Зем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 устроен организм кометы Галле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живают  ли кометы до пенс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далеко кометы могут от нас убеж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мотрим скелет коме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утешествие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2580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зентац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285920"/>
          <a:ext cx="8229600" cy="5246640"/>
        </p:xfrm>
        <a:graphic>
          <a:graphicData uri="http://schemas.openxmlformats.org/drawingml/2006/table">
            <a:tbl>
              <a:tblPr/>
              <a:tblGrid>
                <a:gridCol w="1042920"/>
                <a:gridCol w="3714840"/>
                <a:gridCol w="1414440"/>
                <a:gridCol w="2057400"/>
              </a:tblGrid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кнется ли комета с Земл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 устроен организм кометы Галле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живают  ли кометы до пенси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далеко кометы могут от нас убеж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мотрим скелет коме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утешествие ком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1:06:24Z</dcterms:created>
  <dc:creator>Анжелика</dc:creator>
  <dc:description/>
  <dc:language>en-US</dc:language>
  <cp:lastModifiedBy>Анжелика</cp:lastModifiedBy>
  <dcterms:modified xsi:type="dcterms:W3CDTF">2010-06-07T20:12:48Z</dcterms:modified>
  <cp:revision>13</cp:revision>
  <dc:subject/>
  <dc:title>Малые тела Солнечной системы</dc:title>
</cp:coreProperties>
</file>